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C82-930F-406E-A06C-28D5FD90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F89-E449-49FB-A8FE-C3AFDC41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F7E-6C32-4719-9602-6FFBBE9A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D1C-5296-4908-89CC-213780D8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818-D985-420A-8C32-5A882899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AF4-E22B-4C7B-8BA7-EEBC8160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8BB-6F33-402E-9298-3BF6A5C6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26E-6C19-451A-B14C-D5B6E86F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7F5-4092-4128-9237-27DA7AAA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76D-11D0-4541-8437-BF89CF80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436-555B-487A-906A-F681BFFA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D8D-BAF4-4E47-A9AF-DEC6247A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8CE1-8BAD-42A2-8710-EBCD1707E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3248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58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4:21:32Z</dcterms:created>
  <dc:creator>Preferred Customer</dc:creator>
  <dc:description/>
  <dc:language>en-US</dc:language>
  <cp:lastModifiedBy>Preferred Customer</cp:lastModifiedBy>
  <dcterms:modified xsi:type="dcterms:W3CDTF">2009-05-22T04:22:00Z</dcterms:modified>
  <cp:revision>1</cp:revision>
  <dc:subject/>
  <dc:title>Slide 1</dc:title>
</cp:coreProperties>
</file>