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C163-FCEA-4976-914E-E2E37662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93F0-2812-4883-A848-F3F5748A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3AF8-0341-4E9D-B3AA-76F9A9FE9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11D9-1DDA-47D4-86D2-6714066A2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513F-A195-44D0-BC46-1CCFAB37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D10F-4D8E-4D3A-B63A-A3F4A034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0805-0F90-49EA-8E9E-CEA557AF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8285-D2E6-40BD-B8DF-99CC94C8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B9D7-427E-43E7-B961-FF5C0C3D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3F4F-9EE0-4004-9850-365B0B93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1DFC-0446-4F3D-8B54-91BA865B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9B45-FB39-4AED-BD05-94179149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6A59-20BB-4BD4-91DA-0F43E2046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7631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32484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775800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848360" cy="60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04:21:32Z</dcterms:created>
  <dc:creator>Preferred Customer</dc:creator>
  <dc:description/>
  <dc:language>en-US</dc:language>
  <cp:lastModifiedBy>Preferred Customer</cp:lastModifiedBy>
  <dcterms:modified xsi:type="dcterms:W3CDTF">2009-05-22T04:22:00Z</dcterms:modified>
  <cp:revision>1</cp:revision>
  <dc:subject/>
  <dc:title>Slide 1</dc:title>
</cp:coreProperties>
</file>