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0A3C-4347-4890-84F4-9AFFD7E8D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40E3-FE30-4465-B9C8-762857DC4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D86D-B5D9-48B2-A631-2B1713CED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9C4E-6463-4052-A4A9-6A41E5032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D024-81F9-4781-98B1-B031D0A35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588A-5361-480B-94C8-E795BD50B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224A-AD5F-44F9-A9DC-8E20F2701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3C30-E256-437D-B8C2-2CCCAAFBB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DB5A-7F29-4028-8899-8EF6DC7A7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B907-7C0D-40CE-8BAD-EED5947E4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35F5-042B-41FD-B40E-240B03BD5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DDF9-17B7-4A68-B6A2-767AE1FF7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55A7D-61AE-4600-94D2-6139EB7038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457200"/>
            <a:ext cx="876312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95280" y="609480"/>
            <a:ext cx="6324840" cy="60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7758000" cy="54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848360" cy="60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2T04:21:32Z</dcterms:created>
  <dc:creator>Preferred Customer</dc:creator>
  <dc:description/>
  <dc:language>en-US</dc:language>
  <cp:lastModifiedBy>Preferred Customer</cp:lastModifiedBy>
  <dcterms:modified xsi:type="dcterms:W3CDTF">2009-05-22T04:22:00Z</dcterms:modified>
  <cp:revision>1</cp:revision>
  <dc:subject/>
  <dc:title>Slide 1</dc:title>
</cp:coreProperties>
</file>