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0C6-6D5D-434B-8C0C-827A0B71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FE7-256D-40C4-BB96-7802E385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745-8647-451F-9B90-0D3AC976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D4D-858D-460D-A411-F6AE051B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906-8AA5-4897-930D-4D6755A4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7B9-FCB3-4358-B2F8-8C9CC4B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C6C-D167-4708-8506-957B027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BF9-F6D7-4A53-9A00-8D4EB13B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F55-0069-44E3-BD94-4487F203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253-999B-464C-8D95-9CC1D3E1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F36-22D5-46E6-BA44-49056A17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334-0B34-4CCF-A134-FBD2B68B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857F-F7F6-4B57-8669-3141BE4D1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3248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58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4:21:32Z</dcterms:created>
  <dc:creator>Preferred Customer</dc:creator>
  <dc:description/>
  <dc:language>en-US</dc:language>
  <cp:lastModifiedBy>Preferred Customer</cp:lastModifiedBy>
  <dcterms:modified xsi:type="dcterms:W3CDTF">2009-05-22T04:22:00Z</dcterms:modified>
  <cp:revision>1</cp:revision>
  <dc:subject/>
  <dc:title>Slide 1</dc:title>
</cp:coreProperties>
</file>